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F76-6877-44B0-98DE-D5654565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926-7820-4605-8995-7093D75B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A60-6EA4-4686-BB4C-A8A29E78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F4C-D3B4-4F1E-8620-AD4A313D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4D5-54EB-4F07-9593-D59C0277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16C-0153-4A8E-9FF2-7CB3A101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D22-CCFB-4AA5-8866-AED1E5D6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C8E-07F4-4974-B448-A6D99B3C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A25-1045-4499-9810-5FFEA656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9F1-D947-4B3A-8333-129F1E6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B18-4315-4923-B312-C3E2883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F9B-E867-4195-A12A-55391F1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3915-5435-4161-BD0C-245537363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8.jpeg"/><Relationship Id="rId18" Type="http://schemas.openxmlformats.org/officeDocument/2006/relationships/image" Target="../media/image18.jpeg"/><Relationship Id="rId19" Type="http://schemas.openxmlformats.org/officeDocument/2006/relationships/image" Target="../media/image18.jpe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0.jpeg"/><Relationship Id="rId23" Type="http://schemas.openxmlformats.org/officeDocument/2006/relationships/image" Target="../media/image20.jpeg"/><Relationship Id="rId24" Type="http://schemas.openxmlformats.org/officeDocument/2006/relationships/image" Target="../media/image20.jpeg"/><Relationship Id="rId25" Type="http://schemas.openxmlformats.org/officeDocument/2006/relationships/image" Target="../media/image20.jpeg"/><Relationship Id="rId26" Type="http://schemas.openxmlformats.org/officeDocument/2006/relationships/image" Target="../media/image20.jpeg"/><Relationship Id="rId27" Type="http://schemas.openxmlformats.org/officeDocument/2006/relationships/image" Target="../media/image20.jpeg"/><Relationship Id="rId28" Type="http://schemas.openxmlformats.org/officeDocument/2006/relationships/image" Target="../media/image20.jpeg"/><Relationship Id="rId29" Type="http://schemas.openxmlformats.org/officeDocument/2006/relationships/image" Target="../media/image20.jpeg"/><Relationship Id="rId30" Type="http://schemas.openxmlformats.org/officeDocument/2006/relationships/image" Target="../media/image20.jpeg"/><Relationship Id="rId31" Type="http://schemas.openxmlformats.org/officeDocument/2006/relationships/image" Target="../media/image20.jpeg"/><Relationship Id="rId32" Type="http://schemas.openxmlformats.org/officeDocument/2006/relationships/image" Target="../media/image20.jpeg"/><Relationship Id="rId33" Type="http://schemas.openxmlformats.org/officeDocument/2006/relationships/image" Target="../media/image20.jpeg"/><Relationship Id="rId34" Type="http://schemas.openxmlformats.org/officeDocument/2006/relationships/image" Target="../media/image20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2000">
            <a:off x="376200" y="-1080"/>
            <a:ext cx="8458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fa9bf"/>
                    </a:gs>
                    <a:gs pos="100000">
                      <a:srgbClr val="78815b"/>
                    </a:gs>
                  </a:gsLst>
                  <a:path path="rect">
                    <a:fillToRect l="50000" t="50000" r="50000" b="50000"/>
                  </a:path>
                </a:gradFill>
                <a:latin typeface="Inkpen2 Chords"/>
              </a:rPr>
              <a:t>Pythagoras and his Theorem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fa9bf"/>
                  </a:gs>
                  <a:gs pos="100000">
                    <a:srgbClr val="78815b"/>
                  </a:gs>
                </a:gsLst>
                <a:path path="rect">
                  <a:fillToRect l="50000" t="50000" r="50000" b="50000"/>
                </a:path>
              </a:gradFill>
              <a:latin typeface="Inkpen2 Chords"/>
              <a:ea typeface="Inkpen2 Chord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32840" y="4419720"/>
            <a:ext cx="181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 rot="172200">
            <a:off x="220320" y="225000"/>
            <a:ext cx="8686800" cy="305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8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Pythagoras was a superb mathematicia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who left an eter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impact on the Mathema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we learn in school toda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3022560"/>
            <a:ext cx="8686800" cy="360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8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It is also thanks to him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many other mathematicians were able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make great discove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aided by the theor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he found over 1500 years ago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228600"/>
            <a:ext cx="8991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Pythagoras, the marvellous Ionic Gree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1374bd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mathematician, scientist, astromomer and philosop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1374bd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was born in c.582BC in Samo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1374bd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213372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He is known as the 'Father of Numbers'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and is most famous for his discover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Pythagoras' Theorem, which took his nam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079720" cy="2171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00400" y="4267080"/>
            <a:ext cx="54864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aa1a"/>
                    </a:gs>
                    <a:gs pos="100000">
                      <a:srgbClr val="e0c256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As a young man, he fled Samo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aa1a"/>
                  </a:gs>
                  <a:gs pos="100000">
                    <a:srgbClr val="e0c256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aa1a"/>
                    </a:gs>
                    <a:gs pos="100000">
                      <a:srgbClr val="e0c256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o Croton, in Italy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aa1a"/>
                  </a:gs>
                  <a:gs pos="100000">
                    <a:srgbClr val="e0c256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aa1a"/>
                    </a:gs>
                    <a:gs pos="100000">
                      <a:srgbClr val="e0c256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escape Polycrates' tyrann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aa1a"/>
                  </a:gs>
                  <a:gs pos="100000">
                    <a:srgbClr val="e0c256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228600"/>
            <a:ext cx="8839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ales, a philosopher, was so impress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with Pythagoras' mathematical sk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at he advised hi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seek schooling in Memphis. He learned geometry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Phoenicia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2514600"/>
            <a:ext cx="870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117"/>
                    </a:gs>
                    <a:gs pos="100000">
                      <a:srgbClr val="7f69b5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...which may have inspired the discov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8d117"/>
                  </a:gs>
                  <a:gs pos="100000">
                    <a:srgbClr val="7f69b5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117"/>
                    </a:gs>
                    <a:gs pos="100000">
                      <a:srgbClr val="7f69b5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117"/>
                    </a:gs>
                    <a:gs pos="100000">
                      <a:srgbClr val="7f69b5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of his Theor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8d117"/>
                  </a:gs>
                  <a:gs pos="100000">
                    <a:srgbClr val="7f69b5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2514600" cy="289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04920" y="3809880"/>
            <a:ext cx="5870520" cy="25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While in Croton, Pythagoras urg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citizens to form an eli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circle of followers around himself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were called the Pythagorea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2280" y="380880"/>
            <a:ext cx="8991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 Pythagoreans followed strict rules of conduct :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600200"/>
            <a:ext cx="74948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lived at the school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owned no personal possess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became vegetaria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followed structured daily routin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4eda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 'pupils' of the school sang hymns to Apollo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4eda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4eda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used the lyre's music to cure illn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4eda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380880"/>
            <a:ext cx="7823160" cy="207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YSinMun-MyeongJo"/>
              </a:rPr>
              <a:t>The Pythagoreans devoted their lives to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HYSinMun-MyeongJo"/>
              </a:rPr>
              <a:t>study of Mathematics and had a gre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HYSinMun-MyeongJo"/>
              </a:rPr>
              <a:t>influence on later similar cults, particular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HYSinMun-MyeongJo"/>
              </a:rPr>
              <a:t>Rosicrucianism and Freemason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HYSinMun-MyeongJo"/>
              <a:ea typeface="HYSinMun-MyeongJo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819520"/>
            <a:ext cx="8458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High Tower Text"/>
              </a:rPr>
              <a:t>Both of these cults claimed to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High Tower Text"/>
              </a:rPr>
              <a:t>evolved out of the Pythagorea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4114800"/>
            <a:ext cx="449604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Centaur Festive MT Italic"/>
              </a:rPr>
              <a:t>The Pythagoreans als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Centaur Festive MT Italic"/>
              <a:ea typeface="Centaur Festive MT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Centaur Festive MT Italic"/>
              </a:rPr>
              <a:t>had a great effect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Centaur Festive MT Italic"/>
              <a:ea typeface="Centaur Festive MT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Centaur Festive MT Italic"/>
              </a:rPr>
              <a:t>Middle Easter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Centaur Festive MT Italic"/>
              <a:ea typeface="Centaur Festive MT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Centaur Festive MT Italic"/>
              </a:rPr>
              <a:t>numerolog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Centaur Festive MT Italic"/>
              <a:ea typeface="Centaur Festive MT Itali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3"/>
          <a:stretch/>
        </p:blipFill>
        <p:spPr>
          <a:xfrm>
            <a:off x="5356080" y="4343400"/>
            <a:ext cx="348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86104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However, this great mathematician is mo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High Tower Text"/>
              </a:rPr>
              <a:t>lavishly credited for his discovery of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High Tower Text"/>
              </a:rPr>
              <a:t>Pythagorean Theor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657600"/>
            <a:ext cx="3657600" cy="266688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2362320"/>
            <a:ext cx="73915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igh Tower Text"/>
              </a:rPr>
              <a:t>He realised that the leng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High Tower Text"/>
              </a:rPr>
              <a:t>of the longest 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High Tower Text"/>
              </a:rPr>
              <a:t>of any right - angled triangle squared is equiva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High Tower Text"/>
              </a:rPr>
              <a:t>to the sum of the lengths of the 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High Tower Text"/>
              </a:rPr>
              <a:t>two sides squar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55627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igh Tower Text"/>
              </a:rPr>
              <a:t>Simply - </a:t>
            </a:r>
            <a:r>
              <a:rPr b="1" lang="en-US" sz="3200" spc="-1" strike="noStrike">
                <a:solidFill>
                  <a:srgbClr val="853333"/>
                </a:solidFill>
                <a:latin typeface="Times New Roman"/>
              </a:rPr>
              <a:t>a2+b2=c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81080" y="614196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eda3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4eda3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480060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eda3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4eda3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0" y="480060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eda3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4eda3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9436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16280" y="380880"/>
            <a:ext cx="35146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3333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So for example 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3333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438280"/>
            <a:ext cx="4572000" cy="350532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6386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2133720"/>
            <a:ext cx="304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5943600"/>
            <a:ext cx="352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10080" y="5943600"/>
            <a:ext cx="33336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3962520"/>
            <a:ext cx="30492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19520" y="5770440"/>
            <a:ext cx="3045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19520" y="373392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828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= 3 and b = 4 c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2438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ly … a2 = 9 and b2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276720"/>
            <a:ext cx="25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… 9 + 16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944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c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43440" y="4583160"/>
            <a:ext cx="28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he longest side on the triangle is called 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219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ow is the right angled triangle 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2280" y="228600"/>
            <a:ext cx="8763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This also means that the area of the squ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High Tower Text"/>
              </a:rPr>
              <a:t>whose side is the hypotenuse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High Tower Text"/>
              </a:rPr>
              <a:t>equal to the sum of the areas of the squa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igh Tower Text"/>
              </a:rPr>
              <a:t>whose sides are the triangle's other edg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igh Tower Text"/>
              <a:ea typeface="High Tower Tex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609480" y="2362320"/>
            <a:ext cx="2886120" cy="36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257580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2 = a2 + 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4724280" y="3625920"/>
            <a:ext cx="28195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184200">
            <a:off x="380520" y="304920"/>
            <a:ext cx="838224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23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nkpen2 Script"/>
              </a:rPr>
              <a:t>Other uses of Pythagoras' theor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nkpen2 Script"/>
              <a:ea typeface="Inkpen2 Scrip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638680" y="205740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28600" y="1905120"/>
            <a:ext cx="5029200" cy="203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HYSinMun-MyeongJo"/>
              </a:rPr>
              <a:t>The Pythagorean tree is constru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HYSinMun-MyeongJo"/>
              </a:rPr>
              <a:t>from squares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HYSinMun-MyeongJo"/>
              </a:rPr>
              <a:t>is named after Pythagoras be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HYSinMun-MyeongJo"/>
              </a:rPr>
              <a:t>each trip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HYSinMun-MyeongJo"/>
              </a:rPr>
              <a:t>squares enclo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HYSinMun-MyeongJo"/>
              </a:rPr>
              <a:t>a right angled triang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HYSinMun-MyeongJo"/>
              <a:ea typeface="HYSinMun-MyeongJo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3581280"/>
            <a:ext cx="25905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3218040"/>
            <a:ext cx="35049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0"/>
          <a:stretch/>
        </p:blipFill>
        <p:spPr>
          <a:xfrm>
            <a:off x="380880" y="4419720"/>
            <a:ext cx="2152800" cy="223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743200" y="4419720"/>
            <a:ext cx="6172200" cy="2235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HYSinMun-MyeongJo"/>
              </a:rPr>
              <a:t>The Lute of Pythagoras is a geometric f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HYSinMun-MyeongJo"/>
              </a:rPr>
              <a:t>made up of pentagons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stretch/>
                </a:blipFill>
                <a:latin typeface="HYSinMun-MyeongJo"/>
              </a:rPr>
              <a:t>inscribed pent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stretch/>
                </a:blipFill>
                <a:latin typeface="HYSinMun-MyeongJo"/>
              </a:rPr>
              <a:t>joining the corners of the pentagon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stretch/>
                </a:blipFill>
                <a:latin typeface="HYSinMun-MyeongJo"/>
              </a:rPr>
              <a:t>There are an unlimited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stretch/>
                </a:blipFill>
                <a:latin typeface="HYSinMun-MyeongJo"/>
              </a:rPr>
              <a:t>of pentagons in this lut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stretch/>
              </a:blipFill>
              <a:latin typeface="HYSinMun-MyeongJo"/>
              <a:ea typeface="HYSinMun-MyeongJo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85800" y="5867280"/>
            <a:ext cx="220968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3:14:42Z</dcterms:created>
  <dc:creator>Lynda Hickman</dc:creator>
  <dc:description/>
  <dc:language>en-US</dc:language>
  <cp:lastModifiedBy>Lynda Hickman</cp:lastModifiedBy>
  <dcterms:modified xsi:type="dcterms:W3CDTF">2007-03-11T12:16:00Z</dcterms:modified>
  <cp:revision>11</cp:revision>
  <dc:subject/>
  <dc:title>No Slide Title</dc:title>
</cp:coreProperties>
</file>